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9E3F-B4F0-461A-A1F8-EA7AA02AA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F109-300F-4B48-AD0B-5475EF08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1464-7CA9-40FE-8828-AB443AC22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A5D2-6067-4A55-A902-6DBC60865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9642-9770-4523-88FA-6283B626B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8208-E6AB-45D5-9FB2-254969B4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C083D-954E-4DFB-9799-84A49D21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4151-921A-494C-8EEB-D51E70B4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0C64-8D84-43BF-938E-3B22F149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3FAF-5EB7-45BD-9C30-71A254D0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E064-51C7-4AED-A36D-138A0670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F7BF-A6AA-4419-878E-74B0FE66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B67F4-A85D-4F3F-9597-B270DE4F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99CA-1E7A-4446-965F-DEFF6900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4C7C-69E8-47A0-9CC0-4980534D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1DE8-DEF8-4A4F-A613-07B99B40F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42EE-E071-4B2A-A81E-1011BCFCA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1F93-B009-4DD7-B606-15F0B829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408E-E8A0-48D0-A074-5A8F6877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CAF7-467F-4589-ACF4-640987FF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5A95-9A83-4221-8F97-120CFF38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5BF0-A6E2-4487-AD14-5B8B3C48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67B4-AFCE-40C5-A0C8-80A5458A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F767-8CD6-4BF0-8088-544C7944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FD2F-C9E2-4FF2-BA06-12522C134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209D-AFB8-4980-856D-037B5F180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ucop.edu/irc/announce/tip_attach_email.html" TargetMode="External"/><Relationship Id="rId2" Type="http://schemas.openxmlformats.org/officeDocument/2006/relationships/hyperlink" Target="http://www.figmedia.com/forums/showthread.php?t=2" TargetMode="External"/><Relationship Id="rId3" Type="http://schemas.openxmlformats.org/officeDocument/2006/relationships/hyperlink" Target="http://www.aweber.com/faq/questions/529/What+Should+I+Be+Concerned+With+When+Designing+HTML+Email%3F" TargetMode="External"/><Relationship Id="rId4" Type="http://schemas.openxmlformats.org/officeDocument/2006/relationships/hyperlink" Target="http://www.moove.com/" TargetMode="External"/><Relationship Id="rId5" Type="http://schemas.openxmlformats.org/officeDocument/2006/relationships/hyperlink" Target="http://www.maximumpc.com/article/news/dell_announces_os_x_emulator_and_video_chat_its_studio_laptops" TargetMode="External"/><Relationship Id="rId6" Type="http://schemas.openxmlformats.org/officeDocument/2006/relationships/hyperlink" Target="http://www.pctvhifi.co.uk/" TargetMode="External"/><Relationship Id="rId7" Type="http://schemas.openxmlformats.org/officeDocument/2006/relationships/hyperlink" Target="http://www.gizbuy.com/" TargetMode="External"/><Relationship Id="rId8" Type="http://schemas.openxmlformats.org/officeDocument/2006/relationships/hyperlink" Target="http://www.earningguys.com/blogging/before-starting-new-blog/" TargetMode="External"/><Relationship Id="rId9" Type="http://schemas.openxmlformats.org/officeDocument/2006/relationships/hyperlink" Target="http://blog.socrata.com/category/data/" TargetMode="External"/><Relationship Id="rId10" Type="http://schemas.openxmlformats.org/officeDocument/2006/relationships/hyperlink" Target="http://www.keloland.com/custompages/kelolandblogs/" TargetMode="External"/><Relationship Id="rId11" Type="http://schemas.openxmlformats.org/officeDocument/2006/relationships/hyperlink" Target="http://boards.espn.go.com/boards/mb/mb" TargetMode="External"/><Relationship Id="rId12" Type="http://schemas.openxmlformats.org/officeDocument/2006/relationships/hyperlink" Target="http://www.drphil.com/messageboard/" TargetMode="External"/><Relationship Id="rId13" Type="http://schemas.openxmlformats.org/officeDocument/2006/relationships/hyperlink" Target="http://www.knowledgeboard.com/item/3073" TargetMode="External"/><Relationship Id="rId14" Type="http://schemas.openxmlformats.org/officeDocument/2006/relationships/hyperlink" Target="http://evan.prodromou.name/Journal/15_Germinal_CCXV" TargetMode="External"/><Relationship Id="rId15" Type="http://schemas.openxmlformats.org/officeDocument/2006/relationships/hyperlink" Target="http://blog.delaranja.com/what-is-a-wiki/" TargetMode="External"/><Relationship Id="rId16" Type="http://schemas.openxmlformats.org/officeDocument/2006/relationships/hyperlink" Target="https://lwiese.wikispaces.com/" TargetMode="External"/><Relationship Id="rId17" Type="http://schemas.openxmlformats.org/officeDocument/2006/relationships/hyperlink" Target="http://www.itcboisestate.wordpress.com/" TargetMode="External"/><Relationship Id="rId18" Type="http://schemas.openxmlformats.org/officeDocument/2006/relationships/hyperlink" Target="http://blogoscoped.com/archive/2007-10-26-n63.html" TargetMode="External"/><Relationship Id="rId1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Electronic Communication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What are different ways you communicate with others through electronic devices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Wiki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fine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website that allows multiple users to add, change, or modify cont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kipedia, Wikispace, there are many educational Wik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486400" y="457200"/>
            <a:ext cx="3051000" cy="1943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371600" y="4191120"/>
            <a:ext cx="1589040" cy="1942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rcRect l="0" t="17446" r="0" b="4057"/>
          <a:stretch/>
        </p:blipFill>
        <p:spPr>
          <a:xfrm>
            <a:off x="4495680" y="4114800"/>
            <a:ext cx="3276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Wiki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dvantages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set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of work/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on in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of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sadvantages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ne to vand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ity of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not know who is posting to W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562720" y="380880"/>
            <a:ext cx="3085920" cy="19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PodCast/VideoCast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fine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dio broadcast (which may include video) available on computer and other electronic de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Tube, iTunes, Zune, many educational podcast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600200" y="4267080"/>
            <a:ext cx="2849400" cy="18957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410080" y="4191120"/>
            <a:ext cx="2934000" cy="20192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934320" y="533520"/>
            <a:ext cx="167616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PodCast/VideoCast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dvantages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ography doesn’t make a differ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y on top of tre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sy to get a hold 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sadvantages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 be inappropri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print to go with podca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be of value or people will not listen/wat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010280" y="380880"/>
            <a:ext cx="17240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Social Networking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78483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fine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bsites that allow users to build an on-line profile and share with other peop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ySpace, FaceBook, Twit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867280" y="533520"/>
            <a:ext cx="1967040" cy="14000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772400" y="609480"/>
            <a:ext cx="1036800" cy="1295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1752480" y="4038480"/>
            <a:ext cx="3038760" cy="21225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5181480" y="4038480"/>
            <a:ext cx="251460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Social Networking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ep in touch with many peo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ography doesn’t make a differ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mediate feed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may talk to individuals or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riety of media (chat, e-mail, video cast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sadvantages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ople may forward what you have on the si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yberbully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t too much personal info on si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867280" y="533520"/>
            <a:ext cx="1967040" cy="14000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7772400" y="609480"/>
            <a:ext cx="10368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Types of Electronic Devic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ell Phone/Smart Phon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uter/Laptop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Pod/MP3 Play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Pa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intendo DS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aming Systems (Xbox, Wii, PS3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V (hook to internet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Types Of User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ne to on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ne to few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ne to Man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ew to Few (under 5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ny to Many (Over 5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icture Credit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99cc00"/>
                </a:solidFill>
                <a:uFillTx/>
                <a:latin typeface="Arial"/>
                <a:hlinkClick r:id="rId1"/>
              </a:rPr>
              <a:t>http://www.ucop.edu/irc/announce/tip_attach_email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99cc00"/>
                </a:solidFill>
                <a:uFillTx/>
                <a:latin typeface="Arial"/>
                <a:hlinkClick r:id="rId2"/>
              </a:rPr>
              <a:t>http://www.figmedia.com/forums/showthread.php?t=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99cc00"/>
                </a:solidFill>
                <a:uFillTx/>
                <a:latin typeface="Arial"/>
                <a:hlinkClick r:id="rId3"/>
              </a:rPr>
              <a:t>http://www.aweber.com/faq/questions/529/What+Should+I+Be+Concerned+With+When+Designing+HTML+Email%3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99cc00"/>
                </a:solidFill>
                <a:uFillTx/>
                <a:latin typeface="Arial"/>
                <a:hlinkClick r:id="rId4"/>
              </a:rPr>
              <a:t>www.moove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99cc00"/>
                </a:solidFill>
                <a:uFillTx/>
                <a:latin typeface="Arial"/>
                <a:hlinkClick r:id="rId5"/>
              </a:rPr>
              <a:t>http://www.maximumpc.com/article/news/dell_announces_os_x_emulator_and_video_chat_its_studio_lapto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99cc00"/>
                </a:solidFill>
                <a:uFillTx/>
                <a:latin typeface="Arial"/>
                <a:hlinkClick r:id="rId6"/>
              </a:rPr>
              <a:t>www.pctvhifi.co.uk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99cc00"/>
                </a:solidFill>
                <a:uFillTx/>
                <a:latin typeface="Arial"/>
                <a:hlinkClick r:id="rId7"/>
              </a:rPr>
              <a:t>www.gizbuy.com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99cc00"/>
                </a:solidFill>
                <a:uFillTx/>
                <a:latin typeface="Arial"/>
                <a:hlinkClick r:id="rId8"/>
              </a:rPr>
              <a:t>http://www.earningguys.com/blogging/before-starting-new-blog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99cc00"/>
                </a:solidFill>
                <a:uFillTx/>
                <a:latin typeface="Arial"/>
                <a:hlinkClick r:id="rId9"/>
              </a:rPr>
              <a:t>http://blog.socrata.com/category/data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99cc00"/>
                </a:solidFill>
                <a:uFillTx/>
                <a:latin typeface="Arial"/>
                <a:hlinkClick r:id="rId10"/>
              </a:rPr>
              <a:t>http://www.keloland.com/custompages/kelolandblogs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99cc00"/>
                </a:solidFill>
                <a:uFillTx/>
                <a:latin typeface="Arial"/>
                <a:hlinkClick r:id="rId11"/>
              </a:rPr>
              <a:t>http://boards.espn.go.com/boards/mb/m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99cc00"/>
                </a:solidFill>
                <a:uFillTx/>
                <a:latin typeface="Arial"/>
                <a:hlinkClick r:id="rId12"/>
              </a:rPr>
              <a:t>http://www.drphil.com/messageboard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99cc00"/>
                </a:solidFill>
                <a:uFillTx/>
                <a:latin typeface="Arial"/>
                <a:hlinkClick r:id="rId13"/>
              </a:rPr>
              <a:t>http://www.knowledgeboard.com/item/307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99cc00"/>
                </a:solidFill>
                <a:uFillTx/>
                <a:latin typeface="Arial"/>
                <a:hlinkClick r:id="rId14"/>
              </a:rPr>
              <a:t>http://evan.prodromou.name/Journal/15_Germinal_CCXV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99cc00"/>
                </a:solidFill>
                <a:uFillTx/>
                <a:latin typeface="Arial"/>
                <a:hlinkClick r:id="rId15"/>
              </a:rPr>
              <a:t>http://blog.delaranja.com/what-is-a-wik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99cc00"/>
                </a:solidFill>
                <a:uFillTx/>
                <a:latin typeface="Arial"/>
                <a:hlinkClick r:id="rId16"/>
              </a:rPr>
              <a:t>https://lwiese.wikispaces.com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99cc00"/>
                </a:solidFill>
                <a:uFillTx/>
                <a:latin typeface="Arial"/>
                <a:hlinkClick r:id="rId17"/>
              </a:rPr>
              <a:t>www.itcboisestate.wordpress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99cc00"/>
                </a:solidFill>
                <a:uFillTx/>
                <a:latin typeface="Arial"/>
                <a:hlinkClick r:id="rId18"/>
              </a:rPr>
              <a:t>http://blogoscoped.com/archive/2007-10-26-n63.html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ww.digitaltrends.com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goomedic.com/medical-informatics-related-forums-community-and-social-networks.html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mashable.com/2009/04/02/facebook-personal-brand/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news.cnet.com/8301-13515_3-10184897-26.html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mobilerevolutions.org/archives/29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e-Mail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fin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method of exchanging electronic messages or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amples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ool e-mail, google e-mail, e-mail on facebo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181480" y="4267080"/>
            <a:ext cx="2490840" cy="1943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362320" y="4267080"/>
            <a:ext cx="2133360" cy="2059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781680" y="380880"/>
            <a:ext cx="17179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e-Mail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467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dvant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ant commun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ography doesn’t make a differ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mi-priv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ople can forward and print your e-mai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sage could taken the wrong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yberbully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erson may send message using another person’s e-mail add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483240" y="304920"/>
            <a:ext cx="20894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267080" y="4419720"/>
            <a:ext cx="2867040" cy="16002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Ch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fine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 online talking with a group of peop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box Live; Yahoo messenger, MSN, many games have chat op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095880" y="380880"/>
            <a:ext cx="2152800" cy="1943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066680" y="4648320"/>
            <a:ext cx="1798920" cy="1322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6858000" y="4267080"/>
            <a:ext cx="1771560" cy="16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Ch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y doesn’t make a dif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chat with more than one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chats have a way to invite people into chat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berbull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could be taken the wrong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ly dangerous if chat is open to any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talk back and forth but not pass actual documents back and fo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324480" y="304920"/>
            <a:ext cx="224820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Blogs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fine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-line journal or diary. 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ries in reverse chronological ord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lo-land news blogs, political blog, blog on Facebook, ESPN sports blog, many websites may have a blog lin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Post Pic"/>
          <p:cNvPicPr/>
          <p:nvPr/>
        </p:nvPicPr>
        <p:blipFill>
          <a:blip r:embed="rId1"/>
          <a:stretch/>
        </p:blipFill>
        <p:spPr>
          <a:xfrm>
            <a:off x="5638680" y="457200"/>
            <a:ext cx="3132360" cy="1943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white_house_blog_medium"/>
          <p:cNvPicPr/>
          <p:nvPr/>
        </p:nvPicPr>
        <p:blipFill>
          <a:blip r:embed="rId2"/>
          <a:stretch/>
        </p:blipFill>
        <p:spPr>
          <a:xfrm>
            <a:off x="5181480" y="4343400"/>
            <a:ext cx="2686320" cy="190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rcRect l="9436" t="16512" r="20755" b="5652"/>
          <a:stretch/>
        </p:blipFill>
        <p:spPr>
          <a:xfrm>
            <a:off x="1295280" y="4343400"/>
            <a:ext cx="28195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Blogs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dvantages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are your thought with ot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eryone can re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ows user to reflect on material w/o having to give immediate feed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der may be able to leave comments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sadvantages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keep is time consu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erial may be bias (people’s opinio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ltural differe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idity of information pos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Post Pic"/>
          <p:cNvPicPr/>
          <p:nvPr/>
        </p:nvPicPr>
        <p:blipFill>
          <a:blip r:embed="rId1"/>
          <a:stretch/>
        </p:blipFill>
        <p:spPr>
          <a:xfrm>
            <a:off x="5867280" y="457200"/>
            <a:ext cx="270540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Discussion Board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78483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fine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line discussion area focused on a specific topic with one person having final control of what is pos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 website has discussion board area (Dr. Phil, ESPN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31053" r="36364" b="0"/>
          <a:stretch/>
        </p:blipFill>
        <p:spPr>
          <a:xfrm>
            <a:off x="5791320" y="4191120"/>
            <a:ext cx="2428920" cy="1942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276720" y="4191120"/>
            <a:ext cx="2428920" cy="1942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705720" y="380880"/>
            <a:ext cx="17524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Discussion Board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monitored and modified by ow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of thou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lk with many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ites collabo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user to reflect on material w/o having to give immediate 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may be bias to persons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one may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ity of information po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010280" y="4572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20:37:38Z</dcterms:created>
  <dc:creator>wiesel</dc:creator>
  <dc:description/>
  <dc:language>en-US</dc:language>
  <cp:lastModifiedBy>wiesel</cp:lastModifiedBy>
  <dcterms:modified xsi:type="dcterms:W3CDTF">2010-10-04T16:22:47Z</dcterms:modified>
  <cp:revision>32</cp:revision>
  <dc:subject/>
  <dc:title>Slide 1</dc:title>
</cp:coreProperties>
</file>